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4293-7DF1-4B11-B735-5F3B1F75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Carter – Is this a direct quote from somewhere? If so, we need citations information; AUTHOR, TITLE, YEAR,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0B3-5687-4671-A492-1F224A20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0FA-90BB-4B97-99B0-64440A8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E0D-8833-4225-83F5-271A3FF0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72D-4FD0-464C-8552-C81A0C57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D2D-D6BB-4A6E-A5C5-8BBE90F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EFE-32FD-43C8-A6EA-BB9554D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11C-D86E-4C38-B67D-A58CD80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83C-0487-44B8-8330-093062E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819-136F-456E-9C79-1E2C1184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8DF-93DD-4B81-971D-E85173D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2B4-5678-46A9-980D-C635EA2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AA3-2FF3-444A-A299-CA295CE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F38-F884-41E4-8C61-435FBC2F9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mailto:LCart99@aol.co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0574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ng, Designing, and Align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ucational Systems for Learning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 Standards stifle creativ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The new mission of schools, compulsory “learning for all”, can be delivered in the old system of compulsory “attendance for all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m the standar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teachers will figure it all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514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chool or school district can “do” Instructional Alignment during a summer work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extbook is my curricul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ep Understand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nstructional Alignment ensures equity in learning opportunities for all students through alignment of standards, curriculum, assessment, and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971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making sure that what we are teaching, what we are assessing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are teaching are congru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Total Instructional Align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hree Domains of Total Instructional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standards, curr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struction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60840" y="430200"/>
            <a:ext cx="3911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ve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685800"/>
            <a:ext cx="152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6858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1143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6002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1337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66688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2004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7339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267080"/>
            <a:ext cx="457200" cy="60984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80060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9520" y="455760"/>
            <a:ext cx="196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9 9 9 9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1 1 1 1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685800"/>
            <a:ext cx="50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System Through Horizont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886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666880"/>
            <a:ext cx="472428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2400" y="27432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7440" y="188604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-857160"/>
            <a:ext cx="7925040" cy="76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ningfu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s a difference and has a positive impact on student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Conditions of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4120" y="455760"/>
            <a:ext cx="5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33520"/>
            <a:ext cx="50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System Through Vertic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590920"/>
            <a:ext cx="4724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2400" y="27432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6094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895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352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96440" y="2550960"/>
            <a:ext cx="6858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2860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200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876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5791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648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943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762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143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295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600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1752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3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53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990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447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905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648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5791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029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18680" y="4837320"/>
            <a:ext cx="838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20120" y="1101960"/>
            <a:ext cx="838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956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ep Understanding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time structures through flexible scheduling and grouping practices ensures students the opportunity to learn based on their unique learning clo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117440" y="188604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15228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 We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Time affects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chools were never designed t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all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2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8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762120"/>
            <a:ext cx="9144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search of John Carr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titude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 of learning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3048120" y="4876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ffects Time Sp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ention s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ffects Time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0323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come to us with a varianc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ledge and skill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learn at different r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s an incremental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83808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students for instruction based on chronological 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all students the same amount of time to learn the same amount of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2514600"/>
            <a:ext cx="0" cy="35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13680" y="2514600"/>
            <a:ext cx="0" cy="35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120" y="118908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ish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8320" y="1112760"/>
            <a:ext cx="19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62908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9145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4720" y="320040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2880" y="348624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8289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2880" y="42861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0160" y="4572000"/>
            <a:ext cx="53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9719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33412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579132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0628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ignment of th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6248520"/>
            <a:ext cx="528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560" y="571176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0320" y="2400480"/>
            <a:ext cx="5283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11680" y="18255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9480" y="2282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8600" y="251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3880" y="28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8760" y="312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8760" y="3882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75280" y="4187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7200" y="4568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5960" y="4950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5280" y="5407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0440" y="51055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40384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0" y="3200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2880" y="2971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120" y="26668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840" y="4724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5360" y="3581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240" y="4343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9760" y="5562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5000" y="2362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5800" y="3425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chool of Horace 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Pj04011260000[1]"/>
          <p:cNvPicPr/>
          <p:nvPr/>
        </p:nvPicPr>
        <p:blipFill>
          <a:blip r:embed="rId1"/>
          <a:stretch/>
        </p:blipFill>
        <p:spPr>
          <a:xfrm>
            <a:off x="2971800" y="1752480"/>
            <a:ext cx="3319560" cy="41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ork of Professional Learning Communities and T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at we want our students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know they have learned and learned w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respond to those students who have not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challenge those that have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chool of Horace 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 100 years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t around the agrarian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ed after the 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size fits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ur Circle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2209680" y="1295280"/>
            <a:ext cx="441972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2743200" y="2057400"/>
            <a:ext cx="335268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505320" y="2895480"/>
            <a:ext cx="182880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426480" y="167652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Schoo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580200" y="23623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ademic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505320" y="3429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-Lear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676520" y="685800"/>
            <a:ext cx="5410080" cy="556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197520" y="91440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ed Schoo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4343400" y="3808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640480" y="685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478560" y="16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7012080" y="312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678348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6174000" y="548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4421160" y="624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266868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17542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373400" y="3200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677960" y="1828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2439720" y="91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8"/>
          <p:cNvSpPr/>
          <p:nvPr/>
        </p:nvSpPr>
        <p:spPr>
          <a:xfrm>
            <a:off x="4419720" y="33526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 flipV="1">
            <a:off x="4449600" y="1902960"/>
            <a:ext cx="1949760" cy="1464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38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380880"/>
            <a:ext cx="7467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 Independent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 Dependent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895480"/>
            <a:ext cx="193068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895480"/>
            <a:ext cx="1930680" cy="184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038480"/>
            <a:ext cx="1930680" cy="184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1520" y="31543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9080" y="3154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6240" y="46782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8920" y="396720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077200">
            <a:off x="3344400" y="4138200"/>
            <a:ext cx="1295640" cy="457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5334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66880" y="1905120"/>
            <a:ext cx="3353040" cy="3733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9600" y="17524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6240" y="3425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6960" y="2511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685800"/>
            <a:ext cx="79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78920" y="396720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095880" y="3733920"/>
            <a:ext cx="91440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2514600"/>
            <a:ext cx="236232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12952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838080"/>
            <a:ext cx="81532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innovation you bring into the classroom or school to improve outcomes on student assessment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presu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there is already alignment of the intended (curriculum), taught (instruction), and tested (evaluation) objectives. The innovation itself will not improve outcomes if alignment does not exi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rilling Deeper: TIA Tools and Processes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2880" y="1085760"/>
            <a:ext cx="7570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order to successfully align instruction, teachers need tools, processes, time, materials, resources, and support!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Implementation of TI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ential Alignment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gruenc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-based/objective-bas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-orde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analysis to determine essential knowledge and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ongo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instruc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25440"/>
            <a:ext cx="822960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 Common My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1219320"/>
            <a:ext cx="84330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828800"/>
            <a:ext cx="84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1219320"/>
            <a:ext cx="2520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066680"/>
            <a:ext cx="923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        Benchmark              Criterion-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 SLE            Referenced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91240" y="988920"/>
            <a:ext cx="167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-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371600"/>
            <a:ext cx="33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960" y="6172200"/>
            <a:ext cx="162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304920"/>
            <a:ext cx="49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gruenc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Grade Level o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1219320"/>
            <a:ext cx="0" cy="49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219320"/>
            <a:ext cx="0" cy="49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s-Based/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-Based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5257800" cy="5003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4480" y="533520"/>
            <a:ext cx="2210040" cy="2209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3352680"/>
            <a:ext cx="2210040" cy="2210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990720"/>
            <a:ext cx="1447560" cy="1371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371600"/>
            <a:ext cx="609480" cy="609480"/>
          </a:xfrm>
          <a:prstGeom prst="ellipse">
            <a:avLst/>
          </a:prstGeom>
          <a:solidFill>
            <a:srgbClr val="d62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4191120"/>
            <a:ext cx="609480" cy="609480"/>
          </a:xfrm>
          <a:prstGeom prst="ellipse">
            <a:avLst/>
          </a:prstGeom>
          <a:solidFill>
            <a:srgbClr val="d62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809880"/>
            <a:ext cx="1447560" cy="1371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22860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er-Order Thinking</a:t>
            </a: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sed Blooms’ Tax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6480" y="457200"/>
            <a:ext cx="72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 – Z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720" y="2971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360" y="5029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21680" y="16765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6960" y="16765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7840" y="32004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5440" y="4913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16040" y="32004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6040" y="3200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16760" y="3200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7120" y="32004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Alignment and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al Alignment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synonym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17480" y="32004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86000" y="3352680"/>
            <a:ext cx="4876920" cy="28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622400" y="3352680"/>
            <a:ext cx="25560" cy="285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952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6480" y="-380880"/>
            <a:ext cx="731556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havioral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a well-balanced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el the parts of a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any two fractions using &gt;,&lt; or =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stify the actions of a story chara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model of the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three causes of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ten addition problems (two digits added to two digits with regroup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 between obedience and conformation in the judging of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74640" y="342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13280" y="342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22360" y="5045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62520" y="5045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2880" y="1752480"/>
            <a:ext cx="7031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essential l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in the order of 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use correct form to swim freestyle without assistance a distance of 50 yards across th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09480"/>
            <a:ext cx="762012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S.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interpret economic, social, and political trends of the late 19th and early 20th cent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vanced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earner will find the zeroes, vertical asymptotes, and horizontal asymptotes of a basic function or a rational function through analysis of the polynomials in the numerator and denominator and sketch the graph of a rational function labeling the horizontal and vertical asymptotes and the x- and y- intercep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write a literary analysis to show understanding of repetition, mood/tone, maxims, anecdotes, and figurative language in Chinese and Japanese poe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tell time to the hour, half hour, and quarter h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388800"/>
          <a:ext cx="876312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8800"/>
                    <a:ext cx="876312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-152280" y="0"/>
          <a:ext cx="9296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9296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Instructional Alignment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encouraging teachers to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“teach the tes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04920" y="304920"/>
          <a:ext cx="845820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458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le of Formative Assessmen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and Adjust Based o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ep Understand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appropriate remediation and enrichment opportunities aligned to individual student needs ensures student learning succes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ive Schools Are Data Driven and Results Oriente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1219320"/>
            <a:ext cx="7721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ffective school, student academic progress is measured frequently using a variety of assessment procedures. The results of the assessments are used to improve individual student performance and to improve the overall instruction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monitor student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onitor their ow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Ways to View Assessment</a:t>
            </a:r>
            <a:br>
              <a:rPr sz="36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2571840"/>
            <a:ext cx="7721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6765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assist in the sort and select mission of th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hat helps us gain invaluable information about student learning and allows us to make better instructional deci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11920" y="304920"/>
            <a:ext cx="474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raditional Class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1360" y="2362320"/>
            <a:ext cx="111744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1981080"/>
            <a:ext cx="11174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46240" y="1371600"/>
            <a:ext cx="10922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685800"/>
            <a:ext cx="11178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71920" y="11509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79880" y="9795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7840" y="8082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7280" y="28195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50280" y="22287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67720" y="18860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0-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400" y="8571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"/>
          <p:cNvCxnSpPr/>
          <p:nvPr/>
        </p:nvCxnSpPr>
        <p:spPr>
          <a:xfrm flipH="1" rot="16200000">
            <a:off x="1619280" y="2800080"/>
            <a:ext cx="76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3131280" y="28288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st or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cord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2571840"/>
            <a:ext cx="26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97760" y="2228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026560" y="2228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07240" y="205740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16720" y="205740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90520" y="25797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01440" y="25797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08760" y="262908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18240" y="262908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26560" y="2629080"/>
            <a:ext cx="7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7960" y="4800600"/>
            <a:ext cx="1117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25760" y="4495680"/>
            <a:ext cx="1117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4191120"/>
            <a:ext cx="1117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3200400"/>
            <a:ext cx="1117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8520" y="40086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76480" y="38368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4440" y="3665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07040" y="5457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6880" y="50864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64680" y="47433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7360" y="37148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/>
          <p:nvPr/>
        </p:nvCxnSpPr>
        <p:spPr>
          <a:xfrm flipH="1" rot="16200000">
            <a:off x="1390680" y="7219440"/>
            <a:ext cx="76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2672280" y="556272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ve 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7920" y="542916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9436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0232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23160" y="491508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13680" y="491508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87480" y="54370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8400" y="54370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5486400"/>
            <a:ext cx="5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548640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23160" y="548640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1313640" y="7486560"/>
            <a:ext cx="3816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522160" y="5864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co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97160" y="5638680"/>
            <a:ext cx="50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22360" y="61722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70600" y="600876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rrective or Enri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51000" y="594360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. Thomas Gus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ing Mastery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3880" y="5715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362320"/>
            <a:ext cx="15228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1981080"/>
            <a:ext cx="152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15200" y="685800"/>
            <a:ext cx="152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1371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4800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4800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4495680"/>
            <a:ext cx="15228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4495680"/>
            <a:ext cx="15228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419112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419112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81680" y="3200400"/>
            <a:ext cx="15264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86600" y="32004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069560" y="412920"/>
            <a:ext cx="65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astery Learn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39960" y="3181320"/>
            <a:ext cx="1422360" cy="1390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358128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3352680"/>
            <a:ext cx="1016280" cy="85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35812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00600" y="3276720"/>
            <a:ext cx="1320840" cy="933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944880" y="2815200"/>
            <a:ext cx="594000" cy="39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229880" y="2815200"/>
            <a:ext cx="22320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1295280"/>
            <a:ext cx="1422360" cy="1428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it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352680"/>
            <a:ext cx="1015920" cy="85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97560" y="2057400"/>
            <a:ext cx="15238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ri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22960" y="24955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51055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r. Thomas Gu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ing Mastery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dership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a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28 Lakeshore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Mills, NC 283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0.424.3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0.987.1234 (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Cart99@ao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otalInstructionalAlignmen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248520" y="2286000"/>
            <a:ext cx="2036520" cy="2544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we hold our breath, th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ability thing will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ons, in and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selves, can improve resul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student assessment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s and expect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synony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2:36:58Z</dcterms:created>
  <dc:creator>Lisa Waring</dc:creator>
  <dc:description/>
  <dc:language>en-US</dc:language>
  <cp:lastModifiedBy>Lisa Carter Waring</cp:lastModifiedBy>
  <dcterms:modified xsi:type="dcterms:W3CDTF">2009-06-10T23:44:37Z</dcterms:modified>
  <cp:revision>9</cp:revision>
  <dc:subject/>
  <dc:title>Slide 1</dc:title>
</cp:coreProperties>
</file>